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E6A9-CBAB-4D7E-975B-925009B5E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A1A3-3A5B-436C-B679-E695D9835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B66C-CA19-4ABA-83BE-D1A5D2032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E8BA-462A-479B-9671-AFF116EFB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2D7C-AB44-49F0-BADB-8E1FB4DE6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CBCC-243A-4B61-BB87-0CC62C499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AF6E-4922-430D-AC1A-6B54E86E1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24B5-46FC-4A34-BDEE-966B6CCF3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8175-A1D5-483C-A8E7-BDC81B4E4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AF7A-938D-4ABD-825A-2A3B84CE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AB94-D176-4C12-BAB3-8EC83C34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339B-FC1B-4D74-828F-6967748C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8218B-27C6-44A5-8170-2C9EBC57AF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4" descr=""/>
          <p:cNvPicPr/>
          <p:nvPr/>
        </p:nvPicPr>
        <p:blipFill>
          <a:blip r:embed="rId2"/>
          <a:stretch/>
        </p:blipFill>
        <p:spPr>
          <a:xfrm>
            <a:off x="262080" y="2225520"/>
            <a:ext cx="861372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Объект 3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Объект 3" descr="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6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4" descr=""/>
          <p:cNvPicPr/>
          <p:nvPr/>
        </p:nvPicPr>
        <p:blipFill>
          <a:blip r:embed="rId2"/>
          <a:stretch/>
        </p:blipFill>
        <p:spPr>
          <a:xfrm>
            <a:off x="1901880" y="3438360"/>
            <a:ext cx="1658880" cy="17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Объект 3" descr=""/>
          <p:cNvPicPr/>
          <p:nvPr/>
        </p:nvPicPr>
        <p:blipFill>
          <a:blip r:embed="rId1"/>
          <a:stretch/>
        </p:blipFill>
        <p:spPr>
          <a:xfrm>
            <a:off x="-34920" y="0"/>
            <a:ext cx="917892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Объект 3" descr=""/>
          <p:cNvPicPr/>
          <p:nvPr/>
        </p:nvPicPr>
        <p:blipFill>
          <a:blip r:embed="rId1"/>
          <a:stretch/>
        </p:blipFill>
        <p:spPr>
          <a:xfrm>
            <a:off x="9360" y="0"/>
            <a:ext cx="9134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Объект 3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Объект 3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4" descr=""/>
          <p:cNvPicPr/>
          <p:nvPr/>
        </p:nvPicPr>
        <p:blipFill>
          <a:blip r:embed="rId2"/>
          <a:stretch/>
        </p:blipFill>
        <p:spPr>
          <a:xfrm>
            <a:off x="2908440" y="30240"/>
            <a:ext cx="260820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40_SERVER</cp:lastModifiedBy>
  <dcterms:modified xsi:type="dcterms:W3CDTF">2012-03-17T06:19:35Z</dcterms:modified>
  <cp:revision>7</cp:revision>
  <dc:subject/>
  <dc:title>Презентация PowerPoint</dc:title>
</cp:coreProperties>
</file>